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B229-8F3D-4F5C-93F6-ADCF6836C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41EE-3C67-4808-BF4C-03788B338B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était le plus jeune desept enfants d’un avocat  parisien. En 1637 Charlt est entré au collège. Il a toujours été le meilleur élève de sa classe. Il aimait lire et lisait beaucoup. Il était  encore élève au collège quand il a composé avec ses deux frères son premier livre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0EC-E812-4325-9054-42DA3E8512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1672 il s’est mar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é. Sa femme était plus jeune que lui, mais elle est morte tôt. Ils ont eu quatre enf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90C-27A5-463B-96AA-04DE3468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DDB-A35A-48A0-9C7E-375772B9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098-A008-484E-9252-50205FCC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012-3D17-4716-9717-4AE84DB6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100AD-ED79-4CDB-B1A5-8D18FA56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81CE8-19E5-4FC1-B3BE-560DDB34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BC062-ACC8-4D7C-9056-780203BD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926A9-EA86-44D8-B877-1624C48C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9863D-4355-48C0-9FAE-38723BF3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38331-CD7E-4DAF-BB36-5E7FBABE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F5D86-011C-42DF-8BC0-E15D9AB8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923-D6B7-4E2A-ABF1-7830B382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1775E-B18E-4034-AFFA-4542A0F7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4BB9F-8C45-44F9-A7C0-68C5E1A7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37AAD-58EC-445C-845A-D470C5AC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3CFC6-5FF4-43E8-9C2F-325C3CA7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88945-1507-43B4-B946-8EEA8199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F9E9-A0D1-485C-917E-C90F734A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5044-1F7C-4865-B3AC-98D7E178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952A-4903-48BF-8CD8-4F056D14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FA7F-F11F-4E53-8E0D-B16B2F0A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24B1-986D-44A3-837D-FDAB109E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143-C9A8-4454-83DB-FBA2ED28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B4CB-7E92-4208-9170-94C124B1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D900-32E2-4FC6-B31A-9D9CD5E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C9D2-7F9A-429C-9DB7-418D055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A6E2-4682-4382-BEA3-4583D69B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9AC8-5608-4C8B-B99F-628BAD38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36B8-20F1-4732-A29A-0EE78D1C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B18C-9C14-4E0E-B66B-53D6B7F6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FD2CE-DC37-4934-943A-F99DA79E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751EF-FF6A-4A65-B390-878C4470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668BB-F422-44E3-806B-8EDF2831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800-9441-4580-BA35-634C1CBC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98CE1-EC29-460E-BD45-BC74EF4C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0F77F-E002-4C2D-B6C8-DB1950AD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30481-B775-462F-BBCA-AEFB32E1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92649-F626-4A47-A7A4-4759634A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DD149-2513-47E9-A09F-B380A12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99810-86EB-4AFA-8CFE-71096071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F399C-9C0E-4EFE-B487-4524DFA8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D30E2-339E-4A1C-B6A0-DEE6CE43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B28F2F-28E9-4862-8E17-825B3D90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ECF42-9388-4BE9-B658-C11A10D0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DD6-3E6B-4A66-B5C9-98523A67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9D05-3368-4B82-B6BF-15CD024B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1065C-4F48-4884-A4A8-106D247A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C1B9-CACD-45B9-BE4A-7A3E5B55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DE021-C6A9-4080-993A-9CE5929F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02EB-DC38-407C-8CAD-B54BCC40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A8F3-535D-4748-B21A-D0B80437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28604-85E4-4852-BFD8-41239CDF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08AD-C505-4EEC-90FE-25793F1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770D3-A5B5-41FD-8C8E-DF35DE3B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AC15-074D-4313-BC14-9114DB90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0C0-0BC0-4356-93B8-5B777DCD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A96DC-192C-4BF6-88AD-981F9E21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3D47-FE21-48F5-B5C7-67A2619B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8C794-D38B-42B9-BB0A-1C137AE0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3D9D-AA76-46B5-ACB0-EFEB80D9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2BE2A-B05D-4B1B-8CBB-68881539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2BE1D-CDE0-4776-B799-C8A94B52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38ED-4D4C-4EC7-BFDB-FA8615EF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D4D35-1FF3-46BE-B42A-954092C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13DD-A902-4053-B6D3-AF053501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23392-7E73-497A-AFD7-4DBCBB6C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0ED-7528-47D5-A700-7DC91E8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9A7E4-111C-44F0-886B-18609543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0BBA-FBF2-474B-A0B5-7777E723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B5433-8F5F-410F-8FA0-38CB1AFB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CD51F-3F0A-4544-8B2E-22B8A9B2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44EAE-A080-4751-AEB0-E8C5E8F0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AB7FA-A477-4E9D-98CE-959BEAFA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D2A9A-14CA-453E-A564-FD4DD892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F2FAB-97B6-4999-932D-554BFEE7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F315-4E8D-4713-9121-FD6E49A2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A1F4-A8B0-4BBF-8005-38111AF6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A33-5648-4FEA-99F0-988760EB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3FF96-7F4E-465F-BDF6-3D9DA66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34AC8-5BBD-4520-A05E-5ED5111F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C6722-5DD6-4BB9-9EBB-8422007B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69BE3-D019-4C20-8F39-25F83F2B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45949-4938-4C5D-AF5F-6B4630F6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4BF9C-796A-47BA-9A08-16377C9D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1D349-C379-43AA-90D6-81A94E07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B0432-1690-4309-8018-251E78DD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985B4-BB1E-42F2-90B1-CC6F695C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B0A6-933F-4B9C-9533-86CFED3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D06-0DA1-4125-9137-3DDC0B83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A2F0C-7764-4023-AAFB-D25835C0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3B9AE-8222-4968-92C4-960BDA8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8FCA7-12E2-4B75-A228-2D2B501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34C01-B8B7-4623-B938-28C0983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2C521-D35D-4CD1-A490-2F75B96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E0E70-4B55-4C34-BB03-0E61333D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F91DC-581B-465B-9565-83308B1D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1B45-9213-4E04-AD2F-CDC96722191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149-D408-4329-9AF9-737A0C3AD7F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6D09-C674-479D-A021-9E134E2737F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3CC1-9D9D-4240-9A35-DE70C526B85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BA05-F9A0-497F-AC33-19DD581E4BB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0E97-729B-4F14-8F1E-1A082D08F20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2CC2-6F7E-4771-BB69-40A37C8D3E9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F56-A449-488E-860C-FB995E18620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0" y="2928960"/>
            <a:ext cx="8858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Ь: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кина Ольга Анатольевна, Россия, Владимирская область, г.Ковров, МОУ СОШ№8, тел. 5-70-04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a_anat_polo@mail.ru</a:t>
            </a:r>
            <a:br>
              <a:rPr sz="1600"/>
            </a:b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НИК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тагина Екатерина, Россия, Владимирская область, г.Ковров, МОУ СОШ №8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5-71-87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a_anat_polo@mail.r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FESSEUR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ovinkina Olga Anatoliévna, Russie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vrov, région de Vladimir, école №8, tel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70-04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a_anat_polo@mail.r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ÈV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atagina Catherine, Russie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vrov, région de Vladimir, école №8, tel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70-04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a_anat_polo@mail.r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93560" y="1054080"/>
            <a:ext cx="8321760" cy="1579680"/>
          </a:xfrm>
          <a:prstGeom prst="rect">
            <a:avLst/>
          </a:prstGeom>
          <a:ln w="0">
            <a:noFill/>
          </a:ln>
        </p:spPr>
      </p:pic>
      <p:pic>
        <p:nvPicPr>
          <p:cNvPr id="343" name="Elie Dupuis - Bang Bang.mp3" descr=""/>
          <p:cNvPicPr/>
          <p:nvPr/>
        </p:nvPicPr>
        <p:blipFill>
          <a:blip r:embed="rId2"/>
          <a:stretch/>
        </p:blipFill>
        <p:spPr>
          <a:xfrm>
            <a:off x="8143920" y="714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4" name="TextBox 6" descr=""/>
          <p:cNvPicPr/>
          <p:nvPr/>
        </p:nvPicPr>
        <p:blipFill>
          <a:blip r:embed="rId3"/>
          <a:stretch/>
        </p:blipFill>
        <p:spPr>
          <a:xfrm>
            <a:off x="706320" y="328680"/>
            <a:ext cx="8083800" cy="1030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75" name="Picture 8" descr="1243922349_3"/>
          <p:cNvPicPr/>
          <p:nvPr/>
        </p:nvPicPr>
        <p:blipFill>
          <a:blip r:embed="rId1"/>
          <a:stretch/>
        </p:blipFill>
        <p:spPr>
          <a:xfrm>
            <a:off x="250920" y="333360"/>
            <a:ext cx="4356000" cy="60213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Quelle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était sa profession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Quand Charles Perrault s’est marié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A quel âge Charles Perrault a-t-il publié son recueil de contes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Quels sont ces contes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Un conte, qu’est-ce que c’est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0000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Charles Perrault,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écrivain et conteur français célèbre du 17 siècle est né à Paris le 12 janvier 1628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7" name="Picture 7" descr="0_1e0e8_ca98a867_XL"/>
          <p:cNvPicPr/>
          <p:nvPr/>
        </p:nvPicPr>
        <p:blipFill>
          <a:blip r:embed="rId1"/>
          <a:stretch/>
        </p:blipFill>
        <p:spPr>
          <a:xfrm>
            <a:off x="4719600" y="1600200"/>
            <a:ext cx="3895920" cy="4530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Perro-09"/>
          <p:cNvPicPr/>
          <p:nvPr/>
        </p:nvPicPr>
        <p:blipFill>
          <a:blip r:embed="rId1"/>
          <a:stretch/>
        </p:blipFill>
        <p:spPr>
          <a:xfrm>
            <a:off x="993600" y="1600200"/>
            <a:ext cx="2965680" cy="4530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En 1651 Charles a termin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é ses études à l’Université d’Orléans. Il est devenu avocat comme son père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0000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0" y="3357360"/>
            <a:ext cx="4114800" cy="270180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2" descr=""/>
          <p:cNvPicPr/>
          <p:nvPr/>
        </p:nvPicPr>
        <p:blipFill>
          <a:blip r:embed="rId2"/>
          <a:stretch/>
        </p:blipFill>
        <p:spPr>
          <a:xfrm>
            <a:off x="-189000" y="255600"/>
            <a:ext cx="4664160" cy="4906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i_perro4_1"/>
          <p:cNvPicPr/>
          <p:nvPr/>
        </p:nvPicPr>
        <p:blipFill>
          <a:blip r:embed="rId3"/>
          <a:stretch/>
        </p:blipFill>
        <p:spPr>
          <a:xfrm>
            <a:off x="4572000" y="571680"/>
            <a:ext cx="40798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4" descr=""/>
          <p:cNvPicPr/>
          <p:nvPr/>
        </p:nvPicPr>
        <p:blipFill>
          <a:blip r:embed="rId1"/>
          <a:stretch/>
        </p:blipFill>
        <p:spPr>
          <a:xfrm>
            <a:off x="268200" y="274680"/>
            <a:ext cx="8425080" cy="1152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e Petit Chaperon Rouge”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14920" y="14284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Le Ma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re Chat ou Le Chat bott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é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6" name="Picture 8" descr="normal_krsh3"/>
          <p:cNvPicPr/>
          <p:nvPr/>
        </p:nvPicPr>
        <p:blipFill>
          <a:blip r:embed="rId2"/>
          <a:stretch/>
        </p:blipFill>
        <p:spPr>
          <a:xfrm>
            <a:off x="1000080" y="2384280"/>
            <a:ext cx="3429000" cy="4079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5072040" y="2357280"/>
            <a:ext cx="3236760" cy="4025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20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2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20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 Barde bleue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ndrillon ou la Petite Pantoufle de verre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1" name="Picture 12" descr="normal_perro2"/>
          <p:cNvPicPr/>
          <p:nvPr/>
        </p:nvPicPr>
        <p:blipFill>
          <a:blip r:embed="rId1"/>
          <a:stretch/>
        </p:blipFill>
        <p:spPr>
          <a:xfrm>
            <a:off x="539640" y="1125360"/>
            <a:ext cx="3745080" cy="4724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100799--11800630-m549x500"/>
          <p:cNvPicPr/>
          <p:nvPr/>
        </p:nvPicPr>
        <p:blipFill>
          <a:blip r:embed="rId2"/>
          <a:stretch/>
        </p:blipFill>
        <p:spPr>
          <a:xfrm>
            <a:off x="5429160" y="2500200"/>
            <a:ext cx="309564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4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4" descr=""/>
          <p:cNvPicPr/>
          <p:nvPr/>
        </p:nvPicPr>
        <p:blipFill>
          <a:blip r:embed="rId1"/>
          <a:stretch/>
        </p:blipFill>
        <p:spPr>
          <a:xfrm>
            <a:off x="219240" y="274680"/>
            <a:ext cx="8474040" cy="1152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pjawaja%20krasavica"/>
          <p:cNvPicPr/>
          <p:nvPr/>
        </p:nvPicPr>
        <p:blipFill>
          <a:blip r:embed="rId2"/>
          <a:stretch/>
        </p:blipFill>
        <p:spPr>
          <a:xfrm>
            <a:off x="324000" y="1268280"/>
            <a:ext cx="4032000" cy="3168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spjawaja%20krasavica4"/>
          <p:cNvPicPr/>
          <p:nvPr/>
        </p:nvPicPr>
        <p:blipFill>
          <a:blip r:embed="rId3"/>
          <a:stretch/>
        </p:blipFill>
        <p:spPr>
          <a:xfrm>
            <a:off x="4944960" y="1600200"/>
            <a:ext cx="3444840" cy="2189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spjawaja%20krasavica2"/>
          <p:cNvPicPr/>
          <p:nvPr/>
        </p:nvPicPr>
        <p:blipFill>
          <a:blip r:embed="rId4"/>
          <a:stretch/>
        </p:blipFill>
        <p:spPr>
          <a:xfrm>
            <a:off x="684360" y="1268280"/>
            <a:ext cx="3166920" cy="5400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2" descr=""/>
          <p:cNvPicPr/>
          <p:nvPr/>
        </p:nvPicPr>
        <p:blipFill>
          <a:blip r:embed="rId5"/>
          <a:stretch/>
        </p:blipFill>
        <p:spPr>
          <a:xfrm>
            <a:off x="4788000" y="2421000"/>
            <a:ext cx="4176720" cy="3960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sleeping1"/>
          <p:cNvPicPr/>
          <p:nvPr/>
        </p:nvPicPr>
        <p:blipFill>
          <a:blip r:embed="rId6"/>
          <a:stretch/>
        </p:blipFill>
        <p:spPr>
          <a:xfrm>
            <a:off x="1619280" y="1197000"/>
            <a:ext cx="5616720" cy="4968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Sinic3"/>
          <p:cNvPicPr/>
          <p:nvPr/>
        </p:nvPicPr>
        <p:blipFill>
          <a:blip r:embed="rId1"/>
          <a:stretch/>
        </p:blipFill>
        <p:spPr>
          <a:xfrm>
            <a:off x="357120" y="357120"/>
            <a:ext cx="4187880" cy="6141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787640" y="404280"/>
            <a:ext cx="4105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s contes –ce sont de courtes histoires qui racontent des aventures extraordinaires. On a traduit ces contes en plusieurs langues. Les enfants du monde entier les connaissent par coer avant d’entrer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à l’éco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0000">
    <p:comb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4" descr=""/>
          <p:cNvPicPr/>
          <p:nvPr/>
        </p:nvPicPr>
        <p:blipFill>
          <a:blip r:embed="rId1"/>
          <a:stretch/>
        </p:blipFill>
        <p:spPr>
          <a:xfrm>
            <a:off x="219240" y="274680"/>
            <a:ext cx="8474040" cy="11523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Qui est Charles Perrault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ù et quand il est né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Combien d’enfants y avait-il dans sa famille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Qui était son père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En quelle année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С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harles Perrault est-il entré au collège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Quel élève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etait-il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Quand est-ce que Charles Perrault a écrit son premier livre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3" name="Picture 7" descr="kniga(1)"/>
          <p:cNvPicPr/>
          <p:nvPr/>
        </p:nvPicPr>
        <p:blipFill>
          <a:blip r:embed="rId2"/>
          <a:stretch/>
        </p:blipFill>
        <p:spPr>
          <a:xfrm>
            <a:off x="5114880" y="1827360"/>
            <a:ext cx="3105360" cy="4076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100"/>
                            </p:stCondLst>
                            <p:childTnLst>
                              <p:par>
                                <p:cTn id="1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70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8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350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6:25:12Z</dcterms:created>
  <dc:creator>И.Н.Садовникова</dc:creator>
  <dc:description/>
  <dc:language>en-US</dc:language>
  <cp:lastModifiedBy>Ice_Berg</cp:lastModifiedBy>
  <dcterms:modified xsi:type="dcterms:W3CDTF">2010-11-29T19:06:53Z</dcterms:modified>
  <cp:revision>4</cp:revision>
  <dc:subject/>
  <dc:title>Charles Perrault</dc:title>
</cp:coreProperties>
</file>